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25.gif" ContentType="image/gif"/>
  <Override PartName="/ppt/media/image19.wmf" ContentType="image/x-wmf"/>
  <Override PartName="/ppt/media/image17.wmf" ContentType="image/x-wmf"/>
  <Override PartName="/ppt/media/image15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4.wmf" ContentType="image/x-wmf"/>
  <Override PartName="/ppt/media/LASER.WAV" ContentType="audio/x-wav"/>
  <Override PartName="/ppt/media/image20.wmf" ContentType="image/x-wmf"/>
  <Override PartName="/ppt/media/image18.wmf" ContentType="image/x-wmf"/>
  <Override PartName="/ppt/media/CHIMES.WAV" ContentType="audio/x-wav"/>
  <Override PartName="/ppt/media/image28.wmf" ContentType="image/x-wmf"/>
  <Override PartName="/ppt/media/CAMERA.WAV" ContentType="audio/x-wav"/>
  <Override PartName="/ppt/media/carbrake.wav" ContentType="audio/x-wav"/>
  <Override PartName="/ppt/media/image1.wmf" ContentType="image/x-wmf"/>
  <Override PartName="/ppt/media/image31.wmf" ContentType="image/x-wmf"/>
  <Override PartName="/ppt/media/image24.wmf" ContentType="image/x-wmf"/>
  <Override PartName="/ppt/media/gunshot.wav" ContentType="audio/x-wav"/>
  <Override PartName="/ppt/media/image11.wmf" ContentType="image/x-wmf"/>
  <Override PartName="/ppt/media/image16.wmf" ContentType="image/x-wmf"/>
  <Override PartName="/ppt/media/ricochet.wav" ContentType="audio/x-wav"/>
  <Override PartName="/ppt/media/image40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27.wmf" ContentType="image/x-wmf"/>
  <Override PartName="/ppt/media/image34.wmf" ContentType="image/x-wmf"/>
  <Override PartName="/ppt/media/image4.wmf" ContentType="image/x-wmf"/>
  <Override PartName="/ppt/media/image30.wmf" ContentType="image/x-wmf"/>
  <Override PartName="/ppt/media/WHOOSH.WAV" ContentType="audio/x-wav"/>
  <Override PartName="/ppt/media/image29.wmf" ContentType="image/x-wmf"/>
  <Override PartName="/ppt/media/image36.wmf" ContentType="image/x-wmf"/>
  <Override PartName="/ppt/media/image6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D0A-5838-4836-884F-D4A8F9D0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4FB-F8E6-4A03-8727-E39EF15F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654-4969-4228-AB66-DFB4B4D6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CFB-EF92-47EF-8FF1-A301ECF2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8A0-1E62-4306-90BE-535B9EEF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8B0-7E1E-442E-AFBF-D7141A6D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287-E7F0-4213-BFDF-EECE0CC7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8FA-0AE9-46C3-9512-D347DE8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318-C762-4F55-9EFB-D7F68251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CF1-2A6D-49E9-87C9-00606F09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38F-359C-40BE-8F86-C99742D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75A-EF90-41BE-B3F0-6F0ADF7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F787-B31E-4C59-8FA3-F28EEE1BC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audio" Target="../media/WHOOSH.WAV"/><Relationship Id="rId32" Type="http://schemas.openxmlformats.org/officeDocument/2006/relationships/audio" Target="../media/CHIMES.WAV"/><Relationship Id="rId33" Type="http://schemas.openxmlformats.org/officeDocument/2006/relationships/audio" Target="../media/CAMERA.WAV"/><Relationship Id="rId34" Type="http://schemas.openxmlformats.org/officeDocument/2006/relationships/audio" Target="../media/driveby.wav"/><Relationship Id="rId35" Type="http://schemas.openxmlformats.org/officeDocument/2006/relationships/audio" Target="../media/LASER.WAV"/><Relationship Id="rId36" Type="http://schemas.openxmlformats.org/officeDocument/2006/relationships/audio" Target="../media/driveby.wav"/><Relationship Id="rId37" Type="http://schemas.openxmlformats.org/officeDocument/2006/relationships/audio" Target="../media/LASER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CAMERA.WAV"/><Relationship Id="rId41" Type="http://schemas.openxmlformats.org/officeDocument/2006/relationships/audio" Target="../media/driveby.wav"/><Relationship Id="rId42" Type="http://schemas.openxmlformats.org/officeDocument/2006/relationships/audio" Target="../media/LASER.WAV"/><Relationship Id="rId43" Type="http://schemas.openxmlformats.org/officeDocument/2006/relationships/audio" Target="../media/driveby.wav"/><Relationship Id="rId44" Type="http://schemas.openxmlformats.org/officeDocument/2006/relationships/audio" Target="../media/LASER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audio" Target="../media/CAMERA.WAV"/><Relationship Id="rId48" Type="http://schemas.openxmlformats.org/officeDocument/2006/relationships/audio" Target="../media/driveby.wav"/><Relationship Id="rId49" Type="http://schemas.openxmlformats.org/officeDocument/2006/relationships/audio" Target="../media/LASER.WAV"/><Relationship Id="rId50" Type="http://schemas.openxmlformats.org/officeDocument/2006/relationships/audio" Target="../media/driveby.wav"/><Relationship Id="rId51" Type="http://schemas.openxmlformats.org/officeDocument/2006/relationships/audio" Target="../media/LASER.WAV"/><Relationship Id="rId52" Type="http://schemas.openxmlformats.org/officeDocument/2006/relationships/audio" Target="../media/EXPLODE.WAV"/><Relationship Id="rId53" Type="http://schemas.openxmlformats.org/officeDocument/2006/relationships/audio" Target="../media/EXPLODE.WAV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audio" Target="../media/CAMERA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CAMERA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EXPLODE.WAV"/><Relationship Id="rId41" Type="http://schemas.openxmlformats.org/officeDocument/2006/relationships/audio" Target="../media/CHIMES.WAV"/><Relationship Id="rId42" Type="http://schemas.openxmlformats.org/officeDocument/2006/relationships/audio" Target="../media/gunshot.wav"/><Relationship Id="rId43" Type="http://schemas.openxmlformats.org/officeDocument/2006/relationships/audio" Target="../media/ricochet.wav"/><Relationship Id="rId44" Type="http://schemas.openxmlformats.org/officeDocument/2006/relationships/audio" Target="../media/gunshot.wav"/><Relationship Id="rId45" Type="http://schemas.openxmlformats.org/officeDocument/2006/relationships/audio" Target="../media/ricochet.wav"/><Relationship Id="rId46" Type="http://schemas.openxmlformats.org/officeDocument/2006/relationships/audio" Target="../media/EXPLODE.WAV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4.wmf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AMERA.WAV"/><Relationship Id="rId27" Type="http://schemas.openxmlformats.org/officeDocument/2006/relationships/audio" Target="../media/carbrake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LASER.WAV"/><Relationship Id="rId31" Type="http://schemas.openxmlformats.org/officeDocument/2006/relationships/audio" Target="../media/WHOOSH.WAV"/><Relationship Id="rId32" Type="http://schemas.openxmlformats.org/officeDocument/2006/relationships/audio" Target="../media/LASER.WAV"/><Relationship Id="rId33" Type="http://schemas.openxmlformats.org/officeDocument/2006/relationships/audio" Target="../media/WHOOSH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driveby.wav"/><Relationship Id="rId40" Type="http://schemas.openxmlformats.org/officeDocument/2006/relationships/audio" Target="../media/LASER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audio" Target="../media/carbrake.wav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4.wmf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arbrake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audio" Target="../media/WHOOSH.WAV"/><Relationship Id="rId31" Type="http://schemas.openxmlformats.org/officeDocument/2006/relationships/audio" Target="../media/LASER.WAV"/><Relationship Id="rId32" Type="http://schemas.openxmlformats.org/officeDocument/2006/relationships/audio" Target="../media/WHOOSH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driveby.wav"/><Relationship Id="rId37" Type="http://schemas.openxmlformats.org/officeDocument/2006/relationships/audio" Target="../media/LASER.WAV"/><Relationship Id="rId38" Type="http://schemas.openxmlformats.org/officeDocument/2006/relationships/audio" Target="../media/driveby.wav"/><Relationship Id="rId39" Type="http://schemas.openxmlformats.org/officeDocument/2006/relationships/audio" Target="../media/LASER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carbrake.wav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1219320"/>
          <a:ext cx="326232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3262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295280" y="1828800"/>
          <a:ext cx="11923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828800"/>
                    <a:ext cx="1192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28800" y="2895480"/>
          <a:ext cx="5158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895480"/>
                    <a:ext cx="5158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590920" y="1828800"/>
          <a:ext cx="11919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1828800"/>
                    <a:ext cx="1191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18288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62320" y="2362320"/>
          <a:ext cx="1547640" cy="160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362320"/>
                    <a:ext cx="154764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800600" y="1219320"/>
          <a:ext cx="2695680" cy="70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1219320"/>
                    <a:ext cx="269568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743200" y="1828800"/>
            <a:ext cx="8380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657840" y="1828800"/>
          <a:ext cx="8305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7840" y="18288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562720" y="2817720"/>
          <a:ext cx="515880" cy="67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817720"/>
                    <a:ext cx="5158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334120" y="1828800"/>
          <a:ext cx="8287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34120" y="18288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00800" y="18288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5880" y="2286000"/>
          <a:ext cx="1084320" cy="160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2286000"/>
                    <a:ext cx="10843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05320" y="18288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3962520"/>
          <a:ext cx="3357360" cy="566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520" y="3962520"/>
                    <a:ext cx="3357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23880" y="4572000"/>
          <a:ext cx="83052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23880" y="45720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905120" y="5410080"/>
          <a:ext cx="531720" cy="594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05120" y="5410080"/>
                    <a:ext cx="5317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048120" y="4572000"/>
          <a:ext cx="8287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048120" y="45720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371600" y="45720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438280" y="5334120"/>
          <a:ext cx="1092240" cy="690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38280" y="5334120"/>
                    <a:ext cx="10922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19320" y="45720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219320"/>
          <a:ext cx="316728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316728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90720" y="1600200"/>
                <a:ext cx="9493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" name=""/>
          <p:cNvGraphicFramePr/>
          <p:nvPr/>
        </p:nvGraphicFramePr>
        <p:xfrm>
          <a:off x="1828800" y="2819520"/>
          <a:ext cx="46512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819520"/>
                    <a:ext cx="4651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60720" y="1547640"/>
                <a:ext cx="9777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7" name=""/>
          <p:cNvGraphicFramePr/>
          <p:nvPr/>
        </p:nvGraphicFramePr>
        <p:xfrm>
          <a:off x="2286000" y="2743200"/>
          <a:ext cx="165096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74320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160960" y="1219320"/>
          <a:ext cx="2598840" cy="14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1219320"/>
                    <a:ext cx="259884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15000" y="1560600"/>
                <a:ext cx="960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6170760" y="2664000"/>
          <a:ext cx="620640" cy="82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0760" y="2664000"/>
                    <a:ext cx="62064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315200" y="1523880"/>
                <a:ext cx="9651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6781680" y="2743200"/>
          <a:ext cx="1238400" cy="62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1680" y="2743200"/>
                    <a:ext cx="1238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80880" y="3962520"/>
          <a:ext cx="3165480" cy="146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962520"/>
                    <a:ext cx="316548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2120" y="3809880"/>
                <a:ext cx="113004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0" name=""/>
          <p:cNvGraphicFramePr/>
          <p:nvPr/>
        </p:nvGraphicFramePr>
        <p:xfrm>
          <a:off x="1574640" y="5640480"/>
          <a:ext cx="584280" cy="76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74640" y="5640480"/>
                    <a:ext cx="5842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124080" y="3886200"/>
                <a:ext cx="111924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2133720" y="5638680"/>
          <a:ext cx="123804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5638680"/>
                    <a:ext cx="12380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743200" y="4114800"/>
          <a:ext cx="933480" cy="158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43200" y="4114800"/>
                    <a:ext cx="9334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V="1">
            <a:off x="914400" y="4038120"/>
            <a:ext cx="990720" cy="121932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95480" y="4495320"/>
            <a:ext cx="533520" cy="38124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14800" y="4876920"/>
          <a:ext cx="41580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14800" y="4876920"/>
                    <a:ext cx="41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717640" y="3962520"/>
          <a:ext cx="46836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17640" y="3962520"/>
                    <a:ext cx="468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V="1">
            <a:off x="3657600" y="4952520"/>
            <a:ext cx="457200" cy="30492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038480"/>
            <a:ext cx="914400" cy="121932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68580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1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2944800" y="4570560"/>
          <a:ext cx="44928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4570560"/>
                    <a:ext cx="4492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114300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Write and solve an equation to find your average speed in an airplane if you flew 800 miles in 2.5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54560" y="3809880"/>
          <a:ext cx="492120" cy="5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54560" y="3809880"/>
                    <a:ext cx="492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5053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505320"/>
            <a:ext cx="18288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peed of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733920"/>
            <a:ext cx="1752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15000" y="3884760"/>
          <a:ext cx="6094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88476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248520" y="373392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402000" y="4419720"/>
          <a:ext cx="1496880" cy="66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02000" y="4419720"/>
                    <a:ext cx="14968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43000" y="6216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The average speed was 320 mp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0" y="2362320"/>
          <a:ext cx="4079880" cy="71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86000" y="2362320"/>
                    <a:ext cx="4079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979880" y="4419720"/>
          <a:ext cx="1884600" cy="66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79880" y="4419720"/>
                    <a:ext cx="18846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398760" y="5105520"/>
          <a:ext cx="1052640" cy="731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398760" y="5105520"/>
                    <a:ext cx="1052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867280" y="5105520"/>
          <a:ext cx="1067040" cy="741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5105520"/>
                    <a:ext cx="10670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276720" y="5105520"/>
            <a:ext cx="136368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2520" y="5105520"/>
            <a:ext cx="122724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19720" y="5791320"/>
          <a:ext cx="463320" cy="517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419720" y="5791320"/>
                    <a:ext cx="463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876920" y="5738760"/>
          <a:ext cx="1523880" cy="590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876920" y="5738760"/>
                    <a:ext cx="15238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905120" y="2895480"/>
          <a:ext cx="5224320" cy="581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05120" y="2895480"/>
                    <a:ext cx="52243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444 0.04647 C -0.04566 0.05133 -0.04513 0.05734 -0.04757 0.06104 C -0.04861 0.06289 -0.05069 0.06289 -0.05225 0.06358 C -0.05538 0.06497 -0.0618 0.06775 -0.0618 0.06798 C -0.06666 0.07399 -0.07222 0.07977 -0.07777 0.08462 C -0.08073 0.09688 -0.0868 0.11283 -0.09513 0.12046 C -0.1 0.12485 -0.11041 0.1267 -0.11579 0.12902 C -0.12013 0.13087 -0.12621 0.14081 -0.12847 0.14381 C -0.12951 0.1452 -0.13177 0.14798 -0.13177 0.14821 C -0.13333 0.15445 -0.13489 0.16069 -0.13645 0.16694 C -0.13698 0.16925 -0.13802 0.17341 -0.13802 0.17364 C -0.13888 0.17988 -0.13941 0.19514 -0.14288 0.20092 C -0.14722 0.20809 -0.15989 0.21087 -0.16666 0.21364 C -0.16961 0.21618 -0.17343 0.21688 -0.17621 0.21988 C -0.17968 0.22358 -0.18559 0.2326 -0.18559 0.23283 C -0.1875 0.23931 -0.19027 0.24462 -0.19201 0.25156 C -0.19288 0.25942 -0.19427 0.26705 -0.19513 0.27491 C -0.19704 0.29248 -0.19618 0.31075 -0.21111 0.31722 C -0.21579 0.3267 -0.22118 0.32624 -0.22847 0.32994 C -0.23368 0.33642 -0.24114 0.33827 -0.24757 0.34243 C -0.25104 0.34751 -0.25416 0.35144 -0.25711 0.35722 C -0.25972 0.36763 -0.2592 0.37873 -0.2618 0.38913 C -0.26232 0.39468 -0.26215 0.40046 -0.26336 0.40601 C -0.26475 0.41272 -0.27326 0.41827 -0.27621 0.42081 C -0.28715 0.43075 -0.31614 0.43399 -0.32847 0.43561 C -0.33437 0.43792 -0.33975 0.43792 -0.34444 0.44393 C -0.3467 0.45318 -0.35225 0.45827 -0.35711 0.4652 C -0.35885 0.47237 -0.36093 0.47699 -0.3651 0.48208 C -0.36805 0.49387 -0.37517 0.49017 -0.38402 0.49272 C -0.38923 0.49919 -0.39635 0.50011 -0.40312 0.50289 C -0.40468 0.50381 -0.40781 0.5052 -0.40781 0.50543 C -0.41232 0.5089 -0.41614 0.51376 -0.42066 0.51792 C -0.4276 0.52416 -0.43541 0.52786 -0.44288 0.53272 C -0.44843 0.54035 -0.45034 0.54867 -0.45399 0.55815 C -0.45659 0.57248 -0.45989 0.58566 -0.4651 0.59838 C -0.46718 0.60324 -0.47204 0.62196 -0.47777 0.62566 C -0.48836 0.63283 -0.5 0.6326 -0.51111 0.6363 C -0.52934 0.65526 -0.50798 0.63445 -0.52222 0.64485 C -0.52552 0.64717 -0.53177 0.65318 -0.53177 0.65341 C -0.53576 0.66959 -0.52986 0.64971 -0.53802 0.66381 C -0.53906 0.66566 -0.53871 0.66844 -0.53958 0.67029 C -0.54218 0.67607 -0.546 0.68069 -0.55069 0.68277 C -0.55573 0.68948 -0.56753 0.69642 -0.57448 0.69988 C -0.57552 0.70127 -0.57638 0.70312 -0.57777 0.70405 C -0.57916 0.7052 -0.58125 0.70474 -0.58246 0.70613 C -0.58385 0.70775 -0.58437 0.71052 -0.58559 0.71237 C -0.58993 0.71954 -0.5934 0.7274 -0.59843 0.73364 C -0.59739 0.73503 -0.59409 0.73642 -0.59513 0.7378 C -0.59757 0.74104 -0.60468 0.74196 -0.60468 0.7422 C -0.60989 0.74659 -0.61545 0.75006 -0.62066 0.75468 C -0.62621 0.7778 -0.61753 0.74358 -0.62534 0.7674 C -0.62795 0.77526 -0.62951 0.78451 -0.63177 0.79283 C -0.63454 0.80301 -0.64323 0.8074 -0.646 0.81827 C -0.64895 0.83006 -0.65138 0.84116 -0.65555 0.85202 C -0.65677 0.85896 -0.65868 0.86381 -0.65555 0.87098 C -0.65451 0.87329 -0.65225 0.87353 -0.65069 0.87514 C -0.64618 0.88 -0.64375 0.88324 -0.63802 0.88578 C -0.62812 0.89457 -0.61302 0.90613 -0.60156 0.91121 C -0.58489 0.91861 -0.56805 0.92185 -0.55225 0.93225 C -0.54253 0.9385 -0.53281 0.94196 -0.52222 0.94497 C -0.51684 0.94636 -0.50625 0.94913 -0.50625 0.94936 C -0.49757 0.95699 -0.49531 0.95861 -0.48559 0.96185 C -0.47725 0.96763 -0.45902 0.9815 -0.45069 0.98312 C -0.44548 0.98428 -0.4401 0.98451 -0.43489 0.9852 C -0.41753 0.9926 -0.39288 0.99931 -0.37448 1 C -0.32326 1.00208 -0.22066 1.00416 -0.22066 1.00439 C -0.18923 1.00925 -0.18732 1.0104 -0.13802 1.00416 C -0.13333 1.00347 -0.13003 0.99722 -0.12534 0.99584 C -0.11458 0.99283 -0.11996 0.99491 -0.10954 0.98936 C -0.1026 0.98058 -0.11076 0.99006 -0.1 0.98104 C -0.09739 0.97873 -0.09218 0.97248 -0.08888 0.9704 C -0.07604 0.96185 -0.08611 0.96971 -0.07465 0.96393 C -0.05833 0.95561 -0.0427 0.94983 -0.02534 0.94705 C -0.00625 0.94983 -0.00086 0.95098 0.02066 0.94913 C 0.03403 0.94335 0.01268 0.95214 0.03976 0.94497 C 0.04028 0.94474 0.05139 0.93988 0.054 0.93873 C 0.06441 0.9341 0.07362 0.92532 0.08421 0.92185 C 0.09046 0.91306 0.09879 0.90705 0.10643 0.90058 C 0.11667 0.89179 0.12639 0.88046 0.1349 0.8689 C 0.13716 0.8659 0.15539 0.8615 0.15886 0.86035 C 0.17969 0.85318 0.20122 0.8504 0.22223 0.84347 C 0.23108 0.83584 0.23733 0.82613 0.24445 0.81595 C 0.24931 0.79722 0.25782 0.77642 0.27153 0.7674 C 0.27674 0.76046 0.28143 0.75815 0.28733 0.7526 C 0.29237 0.74798 0.29132 0.7452 0.29688 0.74196 C 0.30417 0.73757 0.31146 0.73618 0.3191 0.73364 C 0.32865 0.7304 0.3382 0.72601 0.34775 0.72301 C 0.35243 0.72 0.35747 0.71815 0.36198 0.71468 C 0.36337 0.71376 0.36372 0.71121 0.36511 0.71029 C 0.37014 0.70682 0.37587 0.7052 0.38108 0.70196 C 0.38872 0.6911 0.39757 0.68324 0.40643 0.67445 C 0.41164 0.66913 0.41355 0.66243 0.4191 0.65757 C 0.42136 0.64832 0.42709 0.64485 0.43021 0.6363 C 0.43334 0.62798 0.4349 0.61942 0.4382 0.6111 C 0.44115 0.58358 0.44254 0.5563 0.44445 0.52855 C 0.44514 0.51815 0.44757 0.50705 0.44931 0.49688 C 0.45035 0.49133 0.45243 0.48 0.45243 0.48 C 0.45417 0.45803 0.4566 0.4363 0.45886 0.41433 C 0.45816 0.35792 0.46007 0.29457 0.454 0.23676 C 0.45157 0.18289 0.44618 0.12855 0.43664 0.07607 C 0.43108 0.00809 0.43264 -0.06335 0.43177 -0.1311 C 0.43334 -0.16439 0.44341 -0.22289 0.41112 -0.23653 C 0.40139 -0.24671 0.39098 -0.25503 0.38108 -0.26405 C 0.37726 -0.26798 0.3632 -0.27145 0.35886 -0.2726 C 0.35278 -0.27422 0.34723 -0.27746 0.34132 -0.27908 C 0.32605 -0.28324 0.31042 -0.28647 0.29532 -0.29156 C 0.27726 -0.29087 0.25921 -0.29133 0.24132 -0.28948 C 0.23802 -0.28925 0.2349 -0.28671 0.23177 -0.28532 C 0.23021 -0.28462 0.22709 -0.28324 0.22709 -0.28301 C 0.22483 -0.28046 0.22327 -0.27676 0.22066 -0.27468 C 0.21927 -0.27353 0.21754 -0.27353 0.21598 -0.2726 C 0.21424 -0.27145 0.21268 -0.26983 0.21112 -0.26844 C 0.20782 -0.26173 0.20365 -0.25965 0.2 -0.25364 C 0.19879 -0.25156 0.19775 -0.24902 0.19688 -0.24717 C 0.19618 -0.24509 0.19618 -0.24278 0.19532 -0.24093 C 0.1941 -0.23838 0.19184 -0.23653 0.19046 -0.23468 C 0.18681 -0.2289 0.18646 -0.22289 0.18264 -0.21757 C 0.17952 -0.20509 0.18334 -0.21688 0.17778 -0.20717 C 0.17552 -0.20301 0.17153 -0.19445 0.17153 -0.19422 C 0.16789 -0.17965 0.17257 -0.19561 0.16667 -0.18382 C 0.16528 -0.18127 0.16476 -0.17804 0.16355 -0.17549 C 0.15782 -0.16393 0.14757 -0.15653 0.13976 -0.14798 C 0.13542 -0.14312 0.13785 -0.14382 0.13334 -0.13942 C 0.11858 -0.12532 0.10348 -0.11145 0.08889 -0.09734 C 0.08438 -0.09249 0.07882 -0.08971 0.07466 -0.08439 C 0.07205 -0.08093 0.06927 -0.07746 0.06667 -0.07399 C 0.06389 -0.07052 0.06233 -0.06335 0.06042 -0.05942 C 0.05851 -0.05549 0.05504 -0.05295 0.05243 -0.05064 C 0.04896 -0.04347 0.0474 -0.04069 0.04132 -0.03792 C 0.03941 -0.03422 0.03733 -0.02752 0.03334 -0.02752 L -3.88889E-006 6.35838E-007 E">
                                      <p:cBhvr>
                                        <p:cTn id="245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5880" y="68580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5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2362320" y="4495680"/>
          <a:ext cx="104904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495680"/>
                    <a:ext cx="10490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106668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8. Write and solve an equation to find your time in an airplane if you flew 1530 miles at a speed of 34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54560" y="3733920"/>
          <a:ext cx="492120" cy="54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54560" y="3733920"/>
                    <a:ext cx="4921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34290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3429000"/>
            <a:ext cx="18288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peed of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657600"/>
            <a:ext cx="1752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715000" y="3808440"/>
          <a:ext cx="6094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80844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248520" y="365760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81280" y="4495680"/>
          <a:ext cx="887400" cy="608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81280" y="4495680"/>
                    <a:ext cx="887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The time in the airplane was 4.5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09680" y="2286000"/>
          <a:ext cx="4419720" cy="716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2286000"/>
                    <a:ext cx="44197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800600" y="4419720"/>
          <a:ext cx="2216160" cy="66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0600" y="4419720"/>
                    <a:ext cx="22161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124080" y="5105520"/>
          <a:ext cx="1148040" cy="645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4080" y="5105520"/>
                    <a:ext cx="114804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867280" y="5105520"/>
          <a:ext cx="1116000" cy="628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5105520"/>
                    <a:ext cx="111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666880" y="5105520"/>
            <a:ext cx="197352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2520" y="5105520"/>
            <a:ext cx="122724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343400" y="5715000"/>
          <a:ext cx="471600" cy="65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343400" y="5715000"/>
                    <a:ext cx="4716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952880" y="5715000"/>
          <a:ext cx="1551240" cy="690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52880" y="5715000"/>
                    <a:ext cx="15512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2895480"/>
          <a:ext cx="5224680" cy="581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752480" y="2895480"/>
                    <a:ext cx="52246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444 0.04647 C -0.04566 0.05133 -0.04513 0.05734 -0.04757 0.06104 C -0.04861 0.06289 -0.05069 0.06289 -0.05225 0.06358 C -0.05538 0.06497 -0.0618 0.06775 -0.0618 0.06798 C -0.06666 0.07399 -0.07222 0.07977 -0.07777 0.08462 C -0.08073 0.09688 -0.0868 0.11283 -0.09513 0.12046 C -0.1 0.12485 -0.11041 0.1267 -0.11579 0.12902 C -0.12013 0.13087 -0.12621 0.14081 -0.12847 0.14381 C -0.12951 0.1452 -0.13177 0.14798 -0.13177 0.14821 C -0.13333 0.15445 -0.13489 0.16069 -0.13645 0.16694 C -0.13698 0.16925 -0.13802 0.17341 -0.13802 0.17364 C -0.13888 0.17988 -0.13941 0.19514 -0.14288 0.20092 C -0.14722 0.20809 -0.15989 0.21087 -0.16666 0.21364 C -0.16961 0.21618 -0.17343 0.21688 -0.17621 0.21988 C -0.17968 0.22358 -0.18559 0.2326 -0.18559 0.23283 C -0.1875 0.23931 -0.19027 0.24462 -0.19201 0.25156 C -0.19288 0.25942 -0.19427 0.26705 -0.19513 0.27491 C -0.19704 0.29248 -0.19618 0.31075 -0.21111 0.31722 C -0.21579 0.3267 -0.22118 0.32624 -0.22847 0.32994 C -0.23368 0.33642 -0.24114 0.33827 -0.24757 0.34243 C -0.25104 0.34751 -0.25416 0.35144 -0.25711 0.35722 C -0.25972 0.36763 -0.2592 0.37873 -0.2618 0.38913 C -0.26232 0.39468 -0.26215 0.40046 -0.26336 0.40601 C -0.26475 0.41272 -0.27326 0.41827 -0.27621 0.42081 C -0.28715 0.43075 -0.31614 0.43399 -0.32847 0.43561 C -0.33437 0.43792 -0.33975 0.43792 -0.34444 0.44393 C -0.3467 0.45318 -0.35225 0.45827 -0.35711 0.4652 C -0.35885 0.47237 -0.36093 0.47699 -0.3651 0.48208 C -0.36805 0.49387 -0.37517 0.49017 -0.38402 0.49272 C -0.38923 0.49919 -0.39635 0.50011 -0.40312 0.50289 C -0.40468 0.50381 -0.40781 0.5052 -0.40781 0.50543 C -0.41232 0.5089 -0.41614 0.51376 -0.42066 0.51792 C -0.4276 0.52416 -0.43541 0.52786 -0.44288 0.53272 C -0.44843 0.54035 -0.45034 0.54867 -0.45399 0.55815 C -0.45659 0.57248 -0.45989 0.58566 -0.4651 0.59838 C -0.46718 0.60324 -0.47204 0.62196 -0.47777 0.62566 C -0.48836 0.63283 -0.5 0.6326 -0.51111 0.6363 C -0.52934 0.65526 -0.50798 0.63445 -0.52222 0.64485 C -0.52552 0.64717 -0.53177 0.65318 -0.53177 0.65341 C -0.53576 0.66959 -0.52986 0.64971 -0.53802 0.66381 C -0.53906 0.66566 -0.53871 0.66844 -0.53958 0.67029 C -0.54218 0.67607 -0.546 0.68069 -0.55069 0.68277 C -0.55573 0.68948 -0.56753 0.69642 -0.57448 0.69988 C -0.57552 0.70127 -0.57638 0.70312 -0.57777 0.70405 C -0.57916 0.7052 -0.58125 0.70474 -0.58246 0.70613 C -0.58385 0.70775 -0.58437 0.71052 -0.58559 0.71237 C -0.58993 0.71954 -0.5934 0.7274 -0.59843 0.73364 C -0.59739 0.73503 -0.59409 0.73642 -0.59513 0.7378 C -0.59757 0.74104 -0.60468 0.74196 -0.60468 0.7422 C -0.60989 0.74659 -0.61545 0.75006 -0.62066 0.75468 C -0.62621 0.7778 -0.61753 0.74358 -0.62534 0.7674 C -0.62795 0.77526 -0.62951 0.78451 -0.63177 0.79283 C -0.63454 0.80301 -0.64323 0.8074 -0.646 0.81827 C -0.64895 0.83006 -0.65138 0.84116 -0.65555 0.85202 C -0.65677 0.85896 -0.65868 0.86381 -0.65555 0.87098 C -0.65451 0.87329 -0.65225 0.87353 -0.65069 0.87514 C -0.64618 0.88 -0.64375 0.88324 -0.63802 0.88578 C -0.62812 0.89457 -0.61302 0.90613 -0.60156 0.91121 C -0.58489 0.91861 -0.56805 0.92185 -0.55225 0.93225 C -0.54253 0.9385 -0.53281 0.94196 -0.52222 0.94497 C -0.51684 0.94636 -0.50625 0.94913 -0.50625 0.94936 C -0.49757 0.95699 -0.49531 0.95861 -0.48559 0.96185 C -0.47725 0.96763 -0.45902 0.9815 -0.45069 0.98312 C -0.44548 0.98428 -0.4401 0.98451 -0.43489 0.9852 C -0.41753 0.9926 -0.39288 0.99931 -0.37448 1 C -0.32326 1.00208 -0.22066 1.00416 -0.22066 1.00439 C -0.18923 1.00925 -0.18732 1.0104 -0.13802 1.00416 C -0.13333 1.00347 -0.13003 0.99722 -0.12534 0.99584 C -0.11458 0.99283 -0.11996 0.99491 -0.10954 0.98936 C -0.1026 0.98058 -0.11076 0.99006 -0.1 0.98104 C -0.09739 0.97873 -0.09218 0.97248 -0.08888 0.9704 C -0.07604 0.96185 -0.08611 0.96971 -0.07465 0.96393 C -0.05833 0.95561 -0.0427 0.94983 -0.02534 0.94705 C -0.00625 0.94983 -0.00086 0.95098 0.02066 0.94913 C 0.03403 0.94335 0.01268 0.95214 0.03976 0.94497 C 0.04028 0.94474 0.05139 0.93988 0.054 0.93873 C 0.06441 0.9341 0.07362 0.92532 0.08421 0.92185 C 0.09046 0.91306 0.09879 0.90705 0.10643 0.90058 C 0.11667 0.89179 0.12639 0.88046 0.1349 0.8689 C 0.13716 0.8659 0.15539 0.8615 0.15886 0.86035 C 0.17969 0.85318 0.20122 0.8504 0.22223 0.84347 C 0.23108 0.83584 0.23733 0.82613 0.24445 0.81595 C 0.24931 0.79722 0.25782 0.77642 0.27153 0.7674 C 0.27674 0.76046 0.28143 0.75815 0.28733 0.7526 C 0.29237 0.74798 0.29132 0.7452 0.29688 0.74196 C 0.30417 0.73757 0.31146 0.73618 0.3191 0.73364 C 0.32865 0.7304 0.3382 0.72601 0.34775 0.72301 C 0.35243 0.72 0.35747 0.71815 0.36198 0.71468 C 0.36337 0.71376 0.36372 0.71121 0.36511 0.71029 C 0.37014 0.70682 0.37587 0.7052 0.38108 0.70196 C 0.38872 0.6911 0.39757 0.68324 0.40643 0.67445 C 0.41164 0.66913 0.41355 0.66243 0.4191 0.65757 C 0.42136 0.64832 0.42709 0.64485 0.43021 0.6363 C 0.43334 0.62798 0.4349 0.61942 0.4382 0.6111 C 0.44115 0.58358 0.44254 0.5563 0.44445 0.52855 C 0.44514 0.51815 0.44757 0.50705 0.44931 0.49688 C 0.45035 0.49133 0.45243 0.48 0.45243 0.48 C 0.45417 0.45803 0.4566 0.4363 0.45886 0.41433 C 0.45816 0.35792 0.46007 0.29457 0.454 0.23676 C 0.45157 0.18289 0.44618 0.12855 0.43664 0.07607 C 0.43108 0.00809 0.43264 -0.06335 0.43177 -0.1311 C 0.43334 -0.16439 0.44341 -0.22289 0.41112 -0.23653 C 0.40139 -0.24671 0.39098 -0.25503 0.38108 -0.26405 C 0.37726 -0.26798 0.3632 -0.27145 0.35886 -0.2726 C 0.35278 -0.27422 0.34723 -0.27746 0.34132 -0.27908 C 0.32605 -0.28324 0.31042 -0.28647 0.29532 -0.29156 C 0.27726 -0.29087 0.25921 -0.29133 0.24132 -0.28948 C 0.23802 -0.28925 0.2349 -0.28671 0.23177 -0.28532 C 0.23021 -0.28462 0.22709 -0.28324 0.22709 -0.28301 C 0.22483 -0.28046 0.22327 -0.27676 0.22066 -0.27468 C 0.21927 -0.27353 0.21754 -0.27353 0.21598 -0.2726 C 0.21424 -0.27145 0.21268 -0.26983 0.21112 -0.26844 C 0.20782 -0.26173 0.20365 -0.25965 0.2 -0.25364 C 0.19879 -0.25156 0.19775 -0.24902 0.19688 -0.24717 C 0.19618 -0.24509 0.19618 -0.24278 0.19532 -0.24093 C 0.1941 -0.23838 0.19184 -0.23653 0.19046 -0.23468 C 0.18681 -0.2289 0.18646 -0.22289 0.18264 -0.21757 C 0.17952 -0.20509 0.18334 -0.21688 0.17778 -0.20717 C 0.17552 -0.20301 0.17153 -0.19445 0.17153 -0.19422 C 0.16789 -0.17965 0.17257 -0.19561 0.16667 -0.18382 C 0.16528 -0.18127 0.16476 -0.17804 0.16355 -0.17549 C 0.15782 -0.16393 0.14757 -0.15653 0.13976 -0.14798 C 0.13542 -0.14312 0.13785 -0.14382 0.13334 -0.13942 C 0.11858 -0.12532 0.10348 -0.11145 0.08889 -0.09734 C 0.08438 -0.09249 0.07882 -0.08971 0.07466 -0.08439 C 0.07205 -0.08093 0.06927 -0.07746 0.06667 -0.07399 C 0.06389 -0.07052 0.06233 -0.06335 0.06042 -0.05942 C 0.05851 -0.05549 0.05504 -0.05295 0.05243 -0.05064 C 0.04896 -0.04347 0.0474 -0.04069 0.04132 -0.03792 C 0.03941 -0.03422 0.03733 -0.02752 0.03334 -0.02752 L -3.88889E-006 6.35838E-007 E">
                                      <p:cBhvr>
                                        <p:cTn id="351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0:25:47Z</dcterms:modified>
  <cp:revision>134</cp:revision>
  <dc:subject/>
  <dc:title>No Slide Title</dc:title>
</cp:coreProperties>
</file>